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Lst>
  <p:sldSz cx="13003213" cy="9752013"/>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7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7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F144-E8A8-429D-8093-A3790B06644C}"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7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7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7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5564-3B1E-485B-B455-789CEC9BBA6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81160" y="696960"/>
            <a:ext cx="4648320" cy="3486240"/>
          </a:xfrm>
          <a:prstGeom prst="rect">
            <a:avLst/>
          </a:prstGeom>
          <a:ln w="0">
            <a:noFill/>
          </a:ln>
        </p:spPr>
      </p:sp>
      <p:sp>
        <p:nvSpPr>
          <p:cNvPr id="7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EB93-F81E-4F65-8305-79AC9F40944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3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3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CE602-5DA5-4913-AFB8-6AE45D7C7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CCCAE-F8E3-41CF-ADC2-71E30DAE5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838D5-8B4E-41ED-B40E-681672F7F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E507-35C4-4E75-A5ED-298D18901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BF29A-3DC1-49CD-A22B-19CE7A95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5DC2D-89B4-4E97-92FD-7BBBD54AF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7FDF2-7BEE-4329-A670-667FD3903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8CD60-575A-4FF5-B197-E44C334BC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7B220-8B80-4E7D-A4F2-4584D5576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B85B3-F1D2-4A21-8C7D-0E5BE342B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A9073-BD93-4E05-B7CA-6774645FA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F2F28-5CFF-4687-970A-7DD898314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53"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4"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92"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93"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31"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2"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7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7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6"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84"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85"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59"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0"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98"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99"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483840" y="299880"/>
            <a:ext cx="556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Formats</a:t>
            </a:r>
            <a:r>
              <a:rPr b="0" lang="en-US" sz="1200" spc="-1" strike="noStrike">
                <a:solidFill>
                  <a:srgbClr val="000000"/>
                </a:solidFill>
                <a:latin typeface="Helvetica Neue Light"/>
              </a:rPr>
              <a:t>: Avoiding proprietary formats; Version 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650880" y="2276280"/>
            <a:ext cx="11702880" cy="643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1"/>
          </p:nvPr>
        </p:nvSpPr>
        <p:spPr>
          <a:xfrm>
            <a:off x="650520" y="9040680"/>
            <a:ext cx="3033720" cy="519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Ligh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Helvetica Neue Light"/>
              </a:rPr>
              <a:t>&lt;date/time&gt;</a:t>
            </a:r>
            <a:endParaRPr b="0" lang="en-US" sz="1200" spc="-1" strike="noStrike">
              <a:solidFill>
                <a:srgbClr val="000000"/>
              </a:solidFill>
              <a:latin typeface="Helvetica Neue Light"/>
            </a:endParaRPr>
          </a:p>
        </p:txBody>
      </p:sp>
      <p:sp>
        <p:nvSpPr>
          <p:cNvPr id="84" name="PlaceHolder 4"/>
          <p:cNvSpPr>
            <a:spLocks noGrp="1"/>
          </p:cNvSpPr>
          <p:nvPr>
            <p:ph type="ftr" idx="2"/>
          </p:nvPr>
        </p:nvSpPr>
        <p:spPr>
          <a:xfrm>
            <a:off x="4443120" y="9040680"/>
            <a:ext cx="411804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5" name="PlaceHolder 5"/>
          <p:cNvSpPr>
            <a:spLocks noGrp="1"/>
          </p:cNvSpPr>
          <p:nvPr>
            <p:ph type="sldNum" idx="3"/>
          </p:nvPr>
        </p:nvSpPr>
        <p:spPr>
          <a:xfrm>
            <a:off x="9319680" y="904068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A18D-F339-41D5-B039-AAC82DB5FA67}" type="slidenum">
              <a:rPr b="0" lang="en-US" sz="1200" spc="-1" strike="noStrike">
                <a:solidFill>
                  <a:srgbClr val="898989"/>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3"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4"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5"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3"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01"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9"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77"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78"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Avoiding proprietary formats</a:t>
            </a:r>
            <a:endParaRPr b="0" lang="en-US" sz="4800" spc="-1" strike="noStrike">
              <a:solidFill>
                <a:srgbClr val="000000"/>
              </a:solidFill>
              <a:latin typeface="Helvetica Neue Light"/>
            </a:endParaRPr>
          </a:p>
        </p:txBody>
      </p:sp>
      <p:sp>
        <p:nvSpPr>
          <p:cNvPr id="781"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lbert J Fleig</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PITA Analytic Sciences</a:t>
            </a:r>
            <a:endParaRPr b="0" lang="en-US" sz="2400" spc="-1" strike="noStrike">
              <a:solidFill>
                <a:srgbClr val="606060"/>
              </a:solidFill>
              <a:latin typeface="Helvetica Neue"/>
            </a:endParaRPr>
          </a:p>
        </p:txBody>
      </p:sp>
      <p:sp>
        <p:nvSpPr>
          <p:cNvPr id="782"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pic>
        <p:nvPicPr>
          <p:cNvPr id="783" name="Picture 31" descr="nasa_3_c"/>
          <p:cNvPicPr/>
          <p:nvPr/>
        </p:nvPicPr>
        <p:blipFill>
          <a:blip r:embed="rId1"/>
          <a:stretch/>
        </p:blipFill>
        <p:spPr>
          <a:xfrm>
            <a:off x="558720" y="7848720"/>
            <a:ext cx="1671840" cy="144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8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use of proprietary formats in data sets for general use, introduces problems in every subsequent stage of archival, distribution, application and maintenance and should be avoided.</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st, time and utility are compromised</a:t>
            </a:r>
            <a:endParaRPr b="0" lang="en-US" sz="4400" spc="-1" strike="noStrike">
              <a:solidFill>
                <a:srgbClr val="000000"/>
              </a:solidFill>
              <a:latin typeface="Helvetica Neue Light"/>
            </a:endParaRPr>
          </a:p>
        </p:txBody>
      </p:sp>
      <p:sp>
        <p:nvSpPr>
          <p:cNvPr id="78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oth the ultimate user and the archival and distribution organization will need to acquire appropriate tools to read the data.  This will consume both money and tim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velopers of future analysis and plotting packages are unlikely to incorporate readers for other companies proprietary formats into their new tool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ovenance is compromised </a:t>
            </a:r>
            <a:endParaRPr b="0" lang="en-US" sz="4400" spc="-1" strike="noStrike">
              <a:solidFill>
                <a:srgbClr val="000000"/>
              </a:solidFill>
              <a:latin typeface="Helvetica Neue Light"/>
            </a:endParaRPr>
          </a:p>
        </p:txBody>
      </p:sp>
      <p:sp>
        <p:nvSpPr>
          <p:cNvPr id="78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nce a data set is reformatted by either the  archival and distribution organization or the end user it becomes very difficult or impossible to maintain provenance back to the original data set.  For instance neither a check-sum nor a byte by byte comparison is po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ools may become unavailable</a:t>
            </a:r>
            <a:endParaRPr b="0" lang="en-US" sz="4400" spc="-1" strike="noStrike">
              <a:solidFill>
                <a:srgbClr val="000000"/>
              </a:solidFill>
              <a:latin typeface="Helvetica Neue Light"/>
            </a:endParaRPr>
          </a:p>
        </p:txBody>
      </p:sp>
      <p:sp>
        <p:nvSpPr>
          <p:cNvPr id="79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anufacturer of the proprietary data format tools may not maintain them as technology for storing and processing data changes. Sufficient information for the archive or a user to provide the necessary changes may not be availabl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793"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vide data in an open source, well documented format that has widespread community access.</a:t>
            </a: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Using self describing forma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hoosing and adopting community accepted standard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Building understandable spreadsheets</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Curt</dc:creator>
  <dc:description/>
  <dc:language>en-US</dc:language>
  <cp:lastModifiedBy>Curt</cp:lastModifiedBy>
  <dcterms:modified xsi:type="dcterms:W3CDTF">2011-10-26T18:06:44Z</dcterms:modified>
  <cp:revision>56</cp:revision>
  <dc:subject/>
  <dc:title>ESIP Federation 101</dc:title>
</cp:coreProperties>
</file>